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png" ContentType="image/png"/>
  <Override PartName="/ppt/media/image8.png" ContentType="image/png"/>
  <Override PartName="/ppt/media/image9.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EE70F-6654-4254-B996-997D97A80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6F8E1-B446-455B-9D81-AAD9469B8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1B3BD-0761-4206-9001-6F7B0C8EB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8B990-2F66-4391-9698-84DE73175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33D9-E401-4642-A571-DB923F35D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35E73-A7C7-49E2-A6B7-A5FF10F3D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3C654-666C-471F-BDB0-167B2A816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2D0A3-1846-49EC-B996-0BBE4D69F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88356-68C4-4795-8A5F-719D511C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9E196-0C76-4A27-AE84-01E8555D5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F906-821F-40B7-847F-BE1148796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0EBE-58B8-4837-B67F-70A884CCA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8E12-68D2-4F2C-A661-8BB672A1B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construction</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nited States His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pter 11</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l Splitter Carto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letter to one of the six artistic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cartoonist’s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cartoonist use artistic devices to communicate his message?</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63" name="" descr=""/>
          <p:cNvPicPr/>
          <p:nvPr/>
        </p:nvPicPr>
        <p:blipFill>
          <a:blip r:embed="rId2"/>
          <a:stretch/>
        </p:blipFill>
        <p:spPr>
          <a:xfrm>
            <a:off x="3110040" y="1600200"/>
            <a:ext cx="292392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ision on the Railroa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3.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ision on the Railroa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tistic device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se men, and what is their attitude toward one an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caused them to feel this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message?</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2"/>
          <a:stretch/>
        </p:blipFill>
        <p:spPr>
          <a:xfrm>
            <a:off x="-152280" y="-380880"/>
            <a:ext cx="9448560" cy="754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71" name="" descr=""/>
          <p:cNvPicPr/>
          <p:nvPr/>
        </p:nvPicPr>
        <p:blipFill>
          <a:blip r:embed="rId2"/>
          <a:stretch/>
        </p:blipFill>
        <p:spPr>
          <a:xfrm>
            <a:off x="3184560" y="1600200"/>
            <a:ext cx="2773440" cy="4525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ong Governme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4.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rong Governme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tistic device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the man with the sword? Who is escorting him? Who is carrying h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have happened to cause this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messag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2"/>
          <a:stretch/>
        </p:blipFill>
        <p:spPr>
          <a:xfrm>
            <a:off x="-457200" y="-457200"/>
            <a:ext cx="9906120" cy="7620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79" name="" descr=""/>
          <p:cNvPicPr/>
          <p:nvPr/>
        </p:nvPicPr>
        <p:blipFill>
          <a:blip r:embed="rId2"/>
          <a:stretch/>
        </p:blipFill>
        <p:spPr>
          <a:xfrm>
            <a:off x="2992320" y="1600200"/>
            <a:ext cx="3159360" cy="452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as the nation’s commitment to its founding ideals tested during Reconstruction?</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se Than Slav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5.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se Than Slaver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tistic device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shaking han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ene is shown beneath the two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think this scene is labeled “Worse Than Sla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is the messag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2"/>
          <a:stretch/>
        </p:blipFill>
        <p:spPr>
          <a:xfrm>
            <a:off x="-457200" y="-380880"/>
            <a:ext cx="9601200" cy="7543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 Answers</a:t>
            </a:r>
            <a:endParaRPr b="0" lang="en-US" sz="4400" spc="-1" strike="noStrike">
              <a:solidFill>
                <a:srgbClr val="000000"/>
              </a:solidFill>
              <a:latin typeface="Arial"/>
            </a:endParaRPr>
          </a:p>
        </p:txBody>
      </p:sp>
      <p:pic>
        <p:nvPicPr>
          <p:cNvPr id="87" name="" descr=""/>
          <p:cNvPicPr/>
          <p:nvPr/>
        </p:nvPicPr>
        <p:blipFill>
          <a:blip r:embed="rId2"/>
          <a:stretch/>
        </p:blipFill>
        <p:spPr>
          <a:xfrm>
            <a:off x="3220920" y="1600200"/>
            <a:ext cx="2702160" cy="4525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of the following:</a:t>
            </a:r>
            <a:endParaRPr b="0" lang="en-US" sz="3200" spc="-1" strike="noStrike">
              <a:solidFill>
                <a:srgbClr val="000000"/>
              </a:solidFill>
              <a:latin typeface="Arial"/>
            </a:endParaRPr>
          </a:p>
          <a:p>
            <a:pPr marL="566640" indent="-5666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olitical cartoon regarding an issue during Reconstruction.  Your cartoon must contain at least three artistic devices.</a:t>
            </a:r>
            <a:endParaRPr b="0" lang="en-US" sz="3200" spc="-1" strike="noStrike">
              <a:solidFill>
                <a:srgbClr val="000000"/>
              </a:solidFill>
              <a:latin typeface="Arial"/>
            </a:endParaRPr>
          </a:p>
          <a:p>
            <a:pPr marL="566640" indent="-5666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modern political cartoon about the nation’s founding ideals.  Write a paragraph analyzing the cartoon by identifying details and explaining the cartoonist’s message.</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Vocabulary</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m – division of power between the federal and stat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eas Corpus – right of a person being detained to appear in court before a ju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sovereignty – right of the people to decide on a political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alism – strong concern for local intere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Vocabulary – Part II</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cription – Draf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cipation – act of freeing slaves from bond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achment – charge a public offi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 person who wants to make big social, political, or economic changes in socie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ession – formal withdrawal from a grou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the Southern Economy</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cropping and tenant farm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e of pover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ation of plan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K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d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Reconstruction = Compromise of 1877</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regation and Discriminati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estri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 t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father clause (white on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eparation (segregation) of rac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ssy v. Fergu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6 U.S. Supreme Court decision allows ‘separate but equal’</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 Crow Laws</a:t>
            </a:r>
            <a:endParaRPr b="0" lang="en-US" sz="4400" spc="-1" strike="noStrike">
              <a:solidFill>
                <a:srgbClr val="000000"/>
              </a:solidFill>
              <a:latin typeface="Arial"/>
            </a:endParaRPr>
          </a:p>
        </p:txBody>
      </p:sp>
      <p:sp>
        <p:nvSpPr>
          <p:cNvPr id="99" name="PlaceHolder 2"/>
          <p:cNvSpPr>
            <a:spLocks noGrp="1"/>
          </p:cNvSpPr>
          <p:nvPr>
            <p:ph/>
          </p:nvPr>
        </p:nvSpPr>
        <p:spPr>
          <a:xfrm>
            <a:off x="457200" y="990720"/>
            <a:ext cx="8229600" cy="50292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lroads</a:t>
            </a:r>
            <a:r>
              <a:rPr b="0" lang="en-US" sz="2400" spc="-1" strike="noStrike">
                <a:solidFill>
                  <a:srgbClr val="000000"/>
                </a:solidFill>
                <a:latin typeface="Arial"/>
              </a:rPr>
              <a:t> The conductor of each passenger train is authorized and required to assign each passenger to the car or the division of the car, when it is divided by a partition, designated for the race to which such passenger belongs.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aurants</a:t>
            </a:r>
            <a:r>
              <a:rPr b="0" lang="en-US" sz="2400" spc="-1" strike="noStrike">
                <a:solidFill>
                  <a:srgbClr val="000000"/>
                </a:solidFill>
                <a:latin typeface="Arial"/>
              </a:rPr>
              <a:t> 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l and Billiard Rooms</a:t>
            </a:r>
            <a:r>
              <a:rPr b="0" lang="en-US" sz="2400" spc="-1" strike="noStrike">
                <a:solidFill>
                  <a:srgbClr val="000000"/>
                </a:solidFill>
                <a:latin typeface="Arial"/>
              </a:rPr>
              <a:t> It shall be unlawful for a negro and white person to play together or in company with each other at any game of pool or billiards.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ilet Facilities, Male</a:t>
            </a:r>
            <a:r>
              <a:rPr b="0" lang="en-US" sz="2400" spc="-1" strike="noStrike">
                <a:solidFill>
                  <a:srgbClr val="000000"/>
                </a:solidFill>
                <a:latin typeface="Arial"/>
              </a:rPr>
              <a:t> Every employer of white or negro males shall provide for such white or negro males reasonably accessible and separate toilet facilities.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nstruction</a:t>
            </a:r>
            <a:endParaRPr b="0" lang="en-US" sz="4400" spc="-1" strike="noStrike">
              <a:solidFill>
                <a:srgbClr val="000000"/>
              </a:solidFill>
              <a:latin typeface="Arial"/>
            </a:endParaRPr>
          </a:p>
        </p:txBody>
      </p:sp>
      <p:sp>
        <p:nvSpPr>
          <p:cNvPr id="4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a:t>
            </a:r>
            <a:endParaRPr b="0" lang="en-US" sz="3600" spc="-1" strike="noStrike">
              <a:solidFill>
                <a:srgbClr val="000000"/>
              </a:solidFill>
              <a:latin typeface="Arial"/>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us of former states </a:t>
            </a:r>
            <a:endParaRPr b="0" lang="en-US" sz="36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ven Confederate States</a:t>
            </a:r>
            <a:endParaRPr b="0" lang="en-US" sz="3200" spc="-1" strike="noStrike">
              <a:solidFill>
                <a:srgbClr val="000000"/>
              </a:solidFill>
              <a:latin typeface="Arial"/>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us of former slaves</a:t>
            </a:r>
            <a:endParaRPr b="0" lang="en-US" sz="36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illion former slaves</a:t>
            </a:r>
            <a:endParaRPr b="0" lang="en-US" sz="32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iterate, unemployed, poor</a:t>
            </a:r>
            <a:endParaRPr b="0" lang="en-US" sz="3200" spc="-1" strike="noStrike">
              <a:solidFill>
                <a:srgbClr val="000000"/>
              </a:solidFill>
              <a:latin typeface="Arial"/>
            </a:endParaRPr>
          </a:p>
          <a:p>
            <a:pPr lvl="1" marL="67608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building the South</a:t>
            </a:r>
            <a:endParaRPr b="0" lang="en-US" sz="36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manufacturing and agriculture destroyed</a:t>
            </a:r>
            <a:endParaRPr b="0" lang="en-US" sz="3200" spc="-1" strike="noStrike">
              <a:solidFill>
                <a:srgbClr val="000000"/>
              </a:solidFill>
              <a:latin typeface="Arial"/>
            </a:endParaRPr>
          </a:p>
          <a:p>
            <a:pPr lvl="2" marL="1040040" indent="-20772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transportation damaged or destroyed</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 Crow Laws </a:t>
            </a:r>
            <a:endParaRPr b="0" lang="en-US" sz="4400" spc="-1" strike="noStrike">
              <a:solidFill>
                <a:srgbClr val="000000"/>
              </a:solidFill>
              <a:latin typeface="Arial"/>
            </a:endParaRPr>
          </a:p>
        </p:txBody>
      </p:sp>
      <p:sp>
        <p:nvSpPr>
          <p:cNvPr id="101"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abitation</a:t>
            </a:r>
            <a:r>
              <a:rPr b="0" lang="en-US" sz="2400" spc="-1" strike="noStrike">
                <a:solidFill>
                  <a:srgbClr val="000000"/>
                </a:solidFill>
                <a:latin typeface="Arial"/>
              </a:rPr>
              <a:t> 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a:t>
            </a:r>
            <a:r>
              <a:rPr b="0" lang="en-US" sz="2400" spc="-1" strike="noStrike">
                <a:solidFill>
                  <a:srgbClr val="000000"/>
                </a:solidFill>
                <a:latin typeface="Arial"/>
              </a:rPr>
              <a:t> The schools for white children and the schools for negro children shall be conducted separately.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marriage</a:t>
            </a:r>
            <a:r>
              <a:rPr b="0" lang="en-US" sz="2400" spc="-1" strike="noStrike">
                <a:solidFill>
                  <a:srgbClr val="000000"/>
                </a:solidFill>
                <a:latin typeface="Arial"/>
              </a:rPr>
              <a:t> It shall be unlawful for a white person to marry anyone except a white person. Any marriage in violation of this section shall be void.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bers</a:t>
            </a:r>
            <a:r>
              <a:rPr b="0" lang="en-US" sz="2400" spc="-1" strike="noStrike">
                <a:solidFill>
                  <a:srgbClr val="000000"/>
                </a:solidFill>
                <a:latin typeface="Arial"/>
              </a:rPr>
              <a:t> No colored barber shall serve as a barber [to] white women or girls.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ial</a:t>
            </a:r>
            <a:r>
              <a:rPr b="0" lang="en-US" sz="2400" spc="-1" strike="noStrike">
                <a:solidFill>
                  <a:srgbClr val="000000"/>
                </a:solidFill>
                <a:latin typeface="Arial"/>
              </a:rPr>
              <a:t> The officer in charge shall not bury, or allow to be buried, any colored persons upon ground set apart or used for the burial of white persons. </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Jim Crow Law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ateur Baseball</a:t>
            </a:r>
            <a:r>
              <a:rPr b="0" lang="en-US" sz="2400" spc="-1" strike="noStrike">
                <a:solidFill>
                  <a:srgbClr val="000000"/>
                </a:solidFill>
                <a:latin typeface="Arial"/>
              </a:rPr>
              <a:t> 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0" i="1" lang="en-US" sz="2400" spc="-1" strike="noStrike">
                <a:solidFill>
                  <a:srgbClr val="000000"/>
                </a:solidFill>
                <a:latin typeface="Arial"/>
              </a:rPr>
              <a:t>Georgi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s</a:t>
            </a:r>
            <a:r>
              <a:rPr b="0" lang="en-US" sz="2400" spc="-1" strike="noStrike">
                <a:solidFill>
                  <a:srgbClr val="000000"/>
                </a:solidFill>
                <a:latin typeface="Arial"/>
              </a:rPr>
              <a:t> 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0" i="1" lang="en-US" sz="2400" spc="-1" strike="noStrike">
                <a:solidFill>
                  <a:srgbClr val="000000"/>
                </a:solidFill>
                <a:latin typeface="Arial"/>
              </a:rPr>
              <a:t>Georgi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or Failur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nd Political Revol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slaves participate in govern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public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stribution of l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ation of former slave families, churches, and communities</a:t>
            </a:r>
            <a:endParaRPr b="0" lang="en-US" sz="2000" spc="-1" strike="noStrike">
              <a:solidFill>
                <a:srgbClr val="000000"/>
              </a:solidFill>
              <a:latin typeface="Arial"/>
            </a:endParaRPr>
          </a:p>
        </p:txBody>
      </p:sp>
      <p:sp>
        <p:nvSpPr>
          <p:cNvPr id="106"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parties unable to continu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tion of ‘Cycle of Pover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ial bias and intimid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igned with National priorities:  ex-slave issues vs. economic issue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ed Timeline for Era 1</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timeline on page 144-145 create an illustrated timeline for the eight events lis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list the name of the event and the date or date 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create an appropriate symbo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write an original caption or headl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event determine and list which founding ideal represents the event</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Topics Unit 3</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ouri Comprom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Jackson – spoils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fest Destin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bolition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sas-Nebraska A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d Scot v. Sandfo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conda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diers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cropp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war</a:t>
            </a:r>
            <a:endParaRPr b="0" lang="en-US" sz="2400" spc="-1" strike="noStrike">
              <a:solidFill>
                <a:srgbClr val="000000"/>
              </a:solidFill>
              <a:latin typeface="Arial"/>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m Crow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ssy v. Fergu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of 187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ncipation Procla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 of the Civil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rican Americans after Civil Wa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Note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Chapter 11 Section 1 and answer the following ques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is second inaugural address, what was Lincoln’s attitude regarding the end of the Civil W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 on April 14, 186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hom did the task of Reconstruction fall?</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0" name=""/>
          <p:cNvGraphicFramePr/>
          <p:nvPr/>
        </p:nvGraphicFramePr>
        <p:xfrm>
          <a:off x="533520" y="0"/>
          <a:ext cx="7772400" cy="6799320"/>
        </p:xfrm>
        <a:graphic>
          <a:graphicData uri="http://schemas.openxmlformats.org/drawingml/2006/table">
            <a:tbl>
              <a:tblPr/>
              <a:tblGrid>
                <a:gridCol w="3886200"/>
                <a:gridCol w="3886200"/>
              </a:tblGrid>
              <a:tr h="337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incoln</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nnedy</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 was elected to Congress in 1846</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 was elected to Congress in 1946</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elected President in 1860</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elected President in 1960</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 wife lost a child while living in the White Hous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 wife lost a child while living in the White House</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directly concerned with Civil Right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directly concerned with Civil Rights</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 was shot in the back of the head in the presence of his wif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 was shot in the back of the head in the presence of his wife</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 shot in the Ford Theatr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 shot in a Lincoln, made by Ford</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shot on a Friday</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 was shot on a Friday</a:t>
                      </a:r>
                      <a:endParaRPr b="0" lang="en-US" sz="1600" spc="-1" strike="noStrike">
                        <a:solidFill>
                          <a:srgbClr val="000000"/>
                        </a:solidFill>
                        <a:latin typeface="Arial"/>
                      </a:endParaRPr>
                    </a:p>
                  </a:txBody>
                  <a:tcPr anchor="ctr" marL="90000" marR="90000">
                    <a:lnL>
                      <a:noFill/>
                    </a:lnL>
                    <a:lnR>
                      <a:noFill/>
                    </a:lnR>
                    <a:lnT>
                      <a:noFill/>
                    </a:lnT>
                    <a:lnB>
                      <a:noFill/>
                    </a:lnB>
                    <a:no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assassin, John Wilkes Booth, was known by three names, comprised of fifteen letter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assassin, Lee Harvey Oswald, was known by three names, comprised of fifteen letters</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ooth shot Lincoln in a theater and fled to a warehous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wald shot Kennedy from a warehouse and fled to a theater</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ooth was killed before being brought to trial</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wald was killed before being brought to trial</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were theories that Booth was part of a greater conspiracy</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were theories that Oswald was part of a greater conspiracy</a:t>
                      </a:r>
                      <a:endParaRPr b="0" lang="en-US" sz="1600" spc="-1" strike="noStrike">
                        <a:solidFill>
                          <a:srgbClr val="000000"/>
                        </a:solidFill>
                        <a:latin typeface="Arial"/>
                      </a:endParaRPr>
                    </a:p>
                  </a:txBody>
                  <a:tcPr anchor="ctr" marL="90000" marR="90000">
                    <a:lnL>
                      <a:noFill/>
                    </a:lnL>
                    <a:lnR>
                      <a:noFill/>
                    </a:lnR>
                    <a:lnT>
                      <a:noFill/>
                    </a:lnT>
                    <a:lnB>
                      <a:noFill/>
                    </a:lnB>
                    <a:noFill/>
                  </a:tcPr>
                </a:tc>
              </a:tr>
              <a:tr h="580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coln's successor was Andrew Johnson, born in 1808</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nnedy's successor was Lyndon Johnson, born in 1908</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incide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63 President Kennedy was invited to a celebration to mark the 100th anniversary of President Abraham Lincoln's reading of his famous Gettysburg Address at the National Cemet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dy declined an invitation to speak and General Eisenhower filled in admirably. Kennedy did send a message which read 'Let us remember those thousands of American patriots whose graves at home, beneath the sea and in distant lands are silent sentries of our heri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nedy had not been able to attend this event because he was needed in Texas to settle a political issue between two Texan politicians - Governor John Connally and US Senator Ralph Yarborough. Instead of attending the ceremonies on 19 November, Kennedy flew down to Texas and stayed the weekend at Lyndon B Johnson's ran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days later, on 22 November, Kennedy was assassinated as he rode through the streets of Dalla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ical Carto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cartoons express the cartoonist’s opinion on a current issue through images and wor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oons contain some or all of the following artistic devic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peopl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ggerated detail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s that identify parts of the carto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or thought bubb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1295280" y="-420840"/>
            <a:ext cx="11645640" cy="727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l Splitter Carto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ly read section 2.  After you have finished reading examine the cartoon and  complet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 Question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17:39:53Z</dcterms:created>
  <dc:creator> </dc:creator>
  <dc:description/>
  <dc:language>en-US</dc:language>
  <cp:lastModifiedBy>School District U46</cp:lastModifiedBy>
  <dcterms:modified xsi:type="dcterms:W3CDTF">2008-09-16T13:50:54Z</dcterms:modified>
  <cp:revision>18</cp:revision>
  <dc:subject/>
  <dc:title>Slide 1</dc:title>
</cp:coreProperties>
</file>